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7B29-9468-42DE-BC22-FEE23762171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4D8C-A2ED-4705-A570-C458D67D77B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5666-1458-4D79-A038-1F1D35A0B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E4E5-5F21-4420-B1EC-5109C526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7F4A-23D1-439A-8100-95897C25B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EE34-8540-4764-8301-EF1A8FC53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324E-F27F-4F2F-B444-B87B90F1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612F-F677-4BF9-9438-43ED4605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BC97-B316-4D3F-B353-AC28EF36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D052-4A87-4EF4-B96F-89FBE7BB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CB49-EFE9-480C-B2C4-FAD0F575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093F-17AC-477A-BFA8-8B578880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E623-A4F3-49A1-A1D6-2E09370E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9C4C-B845-4F16-BE5F-1DE62ACD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B416-019A-4D01-B0BD-41349ACD09F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8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Calibri"/>
              </a:rPr>
              <a:t>Quiz about “ecocide”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6092640"/>
            <a:ext cx="64008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898989"/>
                </a:solidFill>
                <a:latin typeface="Calibri"/>
              </a:rPr>
              <a:t>NASA Goddard Space Flight (under a Creative Commons Licence)</a:t>
            </a:r>
            <a:r>
              <a:rPr b="0" lang="en-GB" sz="1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56149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ecoci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heck by reading this short tex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eewiki.newint.org/index.php/The_Earth_needs_a_good_lawy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3203640" y="3068640"/>
            <a:ext cx="56196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Quiz:  True or Fals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560" y="1052280"/>
            <a:ext cx="8713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Calibri"/>
              </a:rPr>
              <a:t>Watch the first 5 mins of this TED talk to see if these 4 statements are True or False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tedxtalks.ted.com/video/TEDxExeter-Polly-Higgins-Ecoc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thought that changed Polly’s life was that the Earth has righ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750 million people already agree that the Earth has righ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lly says that ecocide is as bad as genoc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ll 5 “crimes against peace” were agreed just after World War 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Key: 1) F  2) T  3) T  4) F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teresting? Now watch the rest of the TED talk. As you watch, think ab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How is “wellbeing of the people” related to the environm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Is the destruction of the environment similar to slaver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How is “profit” related to “ecocide”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How is “ecocide” related to natural justi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7T11:20:09Z</dcterms:created>
  <dc:creator>Linda Ruas</dc:creator>
  <dc:description/>
  <dc:language>en-US</dc:language>
  <cp:lastModifiedBy>Linda Ruas</cp:lastModifiedBy>
  <dcterms:modified xsi:type="dcterms:W3CDTF">2014-05-27T11:34:07Z</dcterms:modified>
  <cp:revision>4</cp:revision>
  <dc:subject/>
  <dc:title>Quiz about “ecocide”</dc:title>
</cp:coreProperties>
</file>